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851-5CA6-432D-92A3-816F7ACE448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4788-9728-4664-8B1F-58A9FD98FF73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0715-ABB6-4641-B5EA-395888B0CA64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A92-F340-457F-9F51-977034C84505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D93-A344-49FE-8E3F-2ACD67BFB788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6118-4526-4E0A-9D0D-A6FAB9D1514B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332-23D5-4227-A440-E1E3B3EA544D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B8A-2746-4100-A57F-7191EBB9F87D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F54-9CE0-4F03-B9E2-AE4BC6CF46AA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855-8403-4097-9CAA-044AD9F7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159-CB8E-4940-8396-A4205CB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780-AD52-4C0E-A0ED-64E218F5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FBC-DDB5-4A62-B30C-F4E6B350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F4A1-FDFE-4B99-A24B-2B18B4F9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6C6-FD34-4477-B19B-958A4FA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66A8-6907-4A38-915A-7F09B42D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E21-BCBE-446C-8618-4F68D02B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6A4C-10AA-497E-A746-A407831F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762-A5E3-40D3-BB95-CBE7D0A4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ADA-C63C-4D35-95D2-788A9CB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481-245E-492D-9E14-1173B7B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898B-7CC3-4A09-B6D3-39F9C8C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D096-186E-4BBD-80C6-7B5270D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FF3F-4250-4C54-8654-94F86D6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3C6A-4F3C-409B-8A13-57351836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F8CD-7EA8-4A92-9698-E01F1310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BAE-B6D2-4CBD-9933-0E76EC43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FC2-32B7-41D4-9A27-A3169B6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7FF-862A-4201-93EF-BBC11AF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7CB-6061-4C73-835A-10C618DE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0E2-50B6-4A2D-A8F4-BB39D80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4B5-38C7-4543-B337-577B401D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896-A91E-4F3C-B535-61AAA20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B0E-0776-4406-8B76-764BF91BD6FD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675-1492-4D74-B935-131A1495863A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rkuenergia.fi/index.php?page=312fcb1be0018a35895f59c24bac58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tsikko 1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7785360" cy="169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920" b="50005"/>
          <a:stretch/>
        </p:blipFill>
        <p:spPr>
          <a:xfrm>
            <a:off x="1785960" y="3143160"/>
            <a:ext cx="5624640" cy="1838520"/>
          </a:xfrm>
          <a:prstGeom prst="rect">
            <a:avLst/>
          </a:prstGeom>
          <a:ln w="0">
            <a:noFill/>
          </a:ln>
        </p:spPr>
      </p:pic>
      <p:sp>
        <p:nvSpPr>
          <p:cNvPr id="91" name="Suora yhdysviiva 5"/>
          <p:cNvSpPr/>
          <p:nvPr/>
        </p:nvSpPr>
        <p:spPr>
          <a:xfrm>
            <a:off x="1857240" y="5000760"/>
            <a:ext cx="45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Eri laitteiden sähköteh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öytätietokone on joka neljännen kerrostalokodin sähkösyöpöin laite. Tuoreen tutkimuksen mukaan pöytäkone kuluttaa keskimäärin 500 kWh vuodessa, mikä vastaa jääkaappipakastimen kulut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ähkölaitteiden teho ilmoitetaan watteina (W) tai kilowatteina (kW). 1 kilowatti = 1000 wattia. Sähköä kuluu yhden kilowatin verran, kun yhden kilowatin (kW) eli 1000 watin (W) tehoista laitetta käytetään yksi tunti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un lasket kulutusta, on teho aina muunnettava wateista kilowateiksi ja käyttöaika tunneiks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aat muutettua kulutuksen euroiksi ja senteiksi, kun kerrot sen oman sähkötuotteesi kWh-hinnalla. Esimerkki:1 kWh x 10 snt/kWh = 10 snt 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tsikko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710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Esim. TV vie keskimäärin 5W ja video 6W. Kellot, radiot ja tietokoneet vie keskimäärin hieman alle 2W. Stereosarjat vie jopa 10W valmiustilassaan.  Myös pistorasiassa oleva laturi kuluttaa sähköä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20 sähkölaitetta valmiustilassa aiheuttaa  900kWh :n vuosikulutuksen– euroina siis jotain 90 euro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os joka kodissa kuluu tämän verran energiaa, mieti, minkä verran energiaa kuluu koko Suomen tasoll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tsikko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Tekstikehys 2"/>
          <p:cNvSpPr/>
          <p:nvPr/>
        </p:nvSpPr>
        <p:spPr>
          <a:xfrm>
            <a:off x="468720" y="150012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Muuta watit kilowateiksi jakamalla tuhann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ikehys 3"/>
          <p:cNvSpPr/>
          <p:nvPr/>
        </p:nvSpPr>
        <p:spPr>
          <a:xfrm>
            <a:off x="519840" y="22860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Muuta aika tunneiks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ikehys 4"/>
          <p:cNvSpPr/>
          <p:nvPr/>
        </p:nvSpPr>
        <p:spPr>
          <a:xfrm>
            <a:off x="580680" y="3000240"/>
            <a:ext cx="778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Laske kWh:ien lukumäärä kertomalla kilowat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ja aika tuntein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ikehys 6"/>
          <p:cNvSpPr/>
          <p:nvPr/>
        </p:nvSpPr>
        <p:spPr>
          <a:xfrm>
            <a:off x="544320" y="421488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Kerro kWh:ien lukumäärä  sähköenergian hinnall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uorakulmio 1"/>
          <p:cNvSpPr/>
          <p:nvPr/>
        </p:nvSpPr>
        <p:spPr>
          <a:xfrm>
            <a:off x="1643040" y="10000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puolen tunnin  ajan hiustenkuivaajaa, joka on teholtaan 1000 W. 1 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uorakulmio 2"/>
          <p:cNvSpPr/>
          <p:nvPr/>
        </p:nvSpPr>
        <p:spPr>
          <a:xfrm>
            <a:off x="1714680" y="2643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1. Teho kilowateiksi: 1000 w = 1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kstikehys 4"/>
          <p:cNvSpPr/>
          <p:nvPr/>
        </p:nvSpPr>
        <p:spPr>
          <a:xfrm>
            <a:off x="1729080" y="3429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neiksi: = ½ h = 0,5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kstikehys 5"/>
          <p:cNvSpPr/>
          <p:nvPr/>
        </p:nvSpPr>
        <p:spPr>
          <a:xfrm>
            <a:off x="1671120" y="421488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Kulutus = 1 kWh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 0,5 h = 0,5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kstikehys 6"/>
          <p:cNvSpPr/>
          <p:nvPr/>
        </p:nvSpPr>
        <p:spPr>
          <a:xfrm>
            <a:off x="1735200" y="4929120"/>
            <a:ext cx="44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Hinta = 0,5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10 snt = 5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orakulmio 1"/>
          <p:cNvSpPr/>
          <p:nvPr/>
        </p:nvSpPr>
        <p:spPr>
          <a:xfrm>
            <a:off x="1500120" y="428760"/>
            <a:ext cx="59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kymmenen minuutin ajan kahvinkeitintä, joka on teholtaan 1200 W. I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kstikehys 3"/>
          <p:cNvSpPr/>
          <p:nvPr/>
        </p:nvSpPr>
        <p:spPr>
          <a:xfrm>
            <a:off x="1603800" y="5357880"/>
            <a:ext cx="48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4. Hinta =0,2 · 10snt = 20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kstikehys 4"/>
          <p:cNvSpPr/>
          <p:nvPr/>
        </p:nvSpPr>
        <p:spPr>
          <a:xfrm>
            <a:off x="1580400" y="250020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Teho kilowatteina:1200 W = 1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kstikehys 5"/>
          <p:cNvSpPr/>
          <p:nvPr/>
        </p:nvSpPr>
        <p:spPr>
          <a:xfrm>
            <a:off x="1592640" y="3429000"/>
            <a:ext cx="62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teina:10 min = 1/6 h = 0,17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kstikehys 6"/>
          <p:cNvSpPr/>
          <p:nvPr/>
        </p:nvSpPr>
        <p:spPr>
          <a:xfrm>
            <a:off x="1601280" y="4429080"/>
            <a:ext cx="62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 Kulutus = 1,2 kWh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0,17 h = 0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tsikko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9620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Tekstikehys 2"/>
          <p:cNvSpPr/>
          <p:nvPr/>
        </p:nvSpPr>
        <p:spPr>
          <a:xfrm>
            <a:off x="-413280" y="928800"/>
            <a:ext cx="1036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katsot tv:tä  3 h päivässä. Television teho on 100W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 kahvinkeitin on päällä 1h päivässä. Kahvinkeittimen te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on 8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3. Kun imuroit 2 h viikossa. Imurin teho on 2000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4. Käytät sähkösaunaa 4 h viikossa. Sähkökiukaan teho on 500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5.Lukulamppusi on päällä 5h päivässä. Lukulampun teho on 6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kstikehys 3"/>
          <p:cNvSpPr/>
          <p:nvPr/>
        </p:nvSpPr>
        <p:spPr>
          <a:xfrm>
            <a:off x="29520" y="5715000"/>
            <a:ext cx="91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Vaihdat 60 W:n hehkulamput 11 W:n energiansäästölampuik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inulla on kotona 15 hehkulamppua. Jos jokainen lamppu on päällä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Keskimäärin 3h päivässä, kuinka paljon säästät sähkölaskussa vuoden aika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0680" y="3786120"/>
            <a:ext cx="85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6. Luokassa olevien loisteputkien teho on 18 W. Kuinka palj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uokan valaistus maksaa kuukaudessa, jos lamput o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äällä 6h koulupäivinä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1480" y="4929120"/>
            <a:ext cx="88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Jos koulussa on 15 samanlaista luokkaa, kuinka paljon raha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luu koulun valaistukseen vuodes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kstikehys 6"/>
          <p:cNvSpPr/>
          <p:nvPr/>
        </p:nvSpPr>
        <p:spPr>
          <a:xfrm>
            <a:off x="800640" y="7858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kWh:n hinta 10 snt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47Z</dcterms:created>
  <dc:creator>Ritva Tamminen</dc:creator>
  <dc:description/>
  <dc:language>en-US</dc:language>
  <cp:lastModifiedBy>Ritva Tamminen</cp:lastModifiedBy>
  <dcterms:modified xsi:type="dcterms:W3CDTF">2010-01-24T08:53:11Z</dcterms:modified>
  <cp:revision>12</cp:revision>
  <dc:subject/>
  <dc:title>Puimuri - kaava</dc:title>
</cp:coreProperties>
</file>